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B4B-CA01-4D67-9813-F606D0EF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726-6624-47BA-A6B1-0DBF73ED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420-D6FE-4BC3-B0DB-9359D80D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E391-CF27-4A6B-A6E3-B9C5DE55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48B-A37B-41A7-9F7B-451C0C33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CE51-B117-48E9-AA19-1E0084F8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602-D3E2-4E12-B2AB-A86B84D9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0FE9-0067-46CB-B4ED-7CC06311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AA68-CC69-49E7-B712-D766BF88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104A-B0C1-4C89-9B96-2A6B3FE2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2B3-E860-4FB8-82F9-4FE6D5A1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51B-08DE-4432-8A36-C3AD65E8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181F-686D-42F4-A816-EB8E27002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TAI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05740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11480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19520" y="2286000"/>
            <a:ext cx="1523880" cy="25146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5111640"/>
            <a:ext cx="914400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ONO BASSA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2065320" cy="4010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828800" y="3352680"/>
            <a:ext cx="9907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PRENDI L’AERE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8954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PRENDI L’AERE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PRENDI L’AERE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28954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PRENDI L’AERE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DEVI ANDAR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8954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DEVI ANDARE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19520" y="2286000"/>
            <a:ext cx="1523880" cy="251460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111640"/>
            <a:ext cx="914400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ONO BASSA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2065320" cy="40100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28800" y="3352680"/>
            <a:ext cx="9907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5111640"/>
            <a:ext cx="914400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TO BEN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670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111640"/>
            <a:ext cx="914400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TO BEN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14600" y="380880"/>
            <a:ext cx="3670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111640"/>
            <a:ext cx="914400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TO MAL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349596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5111640"/>
            <a:ext cx="914400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TO MALE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349596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880" y="304920"/>
            <a:ext cx="838224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286000"/>
            <a:ext cx="838224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419720"/>
            <a:ext cx="838188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304920"/>
            <a:ext cx="838224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OME ST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2209680"/>
            <a:ext cx="838224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OME ST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4114800"/>
            <a:ext cx="838224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OME ST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30492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TAI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51460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EI…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26708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EI…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30492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TAI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51460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EI…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26708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EI…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TAI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11480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30492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TAI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51460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EI…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267080"/>
            <a:ext cx="8382240" cy="14346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OME SEI…..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OVE…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20968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I DOVE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OVE…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OVE…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0968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I DOVE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OVE…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OVE…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20968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I DOVE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DOVE…..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ABIT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50532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18148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8264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ABIT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ABIT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50532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18148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8264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ABIT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V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0532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18148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8264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V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V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50532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18148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68264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V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V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50532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181480"/>
            <a:ext cx="9144000" cy="14346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DI DOVE SE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682640"/>
            <a:ext cx="9144000" cy="1557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DOVE VAI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ADO AL CINEM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4759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TAI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05740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11480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COME SEI..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ADO AL CINEM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05120" y="304920"/>
            <a:ext cx="4759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ADO A SCUOL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ADO A SCUOL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828800" y="45720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ADO A CAS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67816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ADO A CAS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67816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DI EDMONT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2670120" cy="4267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 flipH="1">
            <a:off x="4724280" y="2666880"/>
            <a:ext cx="2743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DI EDMONT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2670120" cy="426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H="1">
            <a:off x="4724280" y="2666880"/>
            <a:ext cx="2743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ITO A EDMONT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2670120" cy="42674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4724280" y="2666880"/>
            <a:ext cx="2743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523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ITO A EDMONT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2670120" cy="4267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>
            <a:off x="4724280" y="2666880"/>
            <a:ext cx="2743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523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ITO A EDMONTO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2670120" cy="4267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H="1">
            <a:off x="4724280" y="2666880"/>
            <a:ext cx="274320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657600" y="2209680"/>
            <a:ext cx="1523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19720" y="228600"/>
            <a:ext cx="1523880" cy="4724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11164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SONO ALTO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81280" y="685800"/>
            <a:ext cx="2065320" cy="401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 flipV="1">
            <a:off x="5943600" y="2361960"/>
            <a:ext cx="19051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DI ROM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9308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DI ROM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93080" cy="35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ITO A ROM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93080" cy="3539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52424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BITO A ROM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93080" cy="3539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477120" y="1066680"/>
            <a:ext cx="1523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CANADES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19240" y="533520"/>
            <a:ext cx="443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CANADES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19240" y="533520"/>
            <a:ext cx="4434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QUANDO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QUANDO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QUANDO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LE OTT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61296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114800" y="2133720"/>
            <a:ext cx="327672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:30 A.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LE OTT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612960" cy="3657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114800" y="2133720"/>
            <a:ext cx="327672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:30 A.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LE NOV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612960" cy="36576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14800" y="2133720"/>
            <a:ext cx="327672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:00 P.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19720" y="228600"/>
            <a:ext cx="1523880" cy="4724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1164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SONO ALTO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81280" y="685800"/>
            <a:ext cx="2065320" cy="4010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 flipV="1">
            <a:off x="5943600" y="2361960"/>
            <a:ext cx="19051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LE NOV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612960" cy="3657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14800" y="2133720"/>
            <a:ext cx="327672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:00 P.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LE CINQU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612960" cy="36576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114800" y="2133720"/>
            <a:ext cx="327672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:00 P.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QUANDO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QUANDO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QUANDO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 SCUOL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 SCUOL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 SCUOL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 SCUOL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 CAS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 CAS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 CAS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 CAS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L CINEM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L CINEM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L CINEM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L CINEM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L CINEM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048120"/>
            <a:ext cx="9144000" cy="22885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ANDO VAI AL CINEMA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114800" y="228600"/>
            <a:ext cx="1523880" cy="4724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11164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SONO ALTA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2065320" cy="4010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5715000" y="2133360"/>
            <a:ext cx="19051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 SE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 SE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 SE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 SE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 SE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CHI SE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UNA STUDENT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635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UNA STUDENT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590920" y="380880"/>
            <a:ext cx="3635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UNO STUDENT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349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UNO STUDENT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349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UNA MAESTR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062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UNA MAESTR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062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191120" y="228600"/>
            <a:ext cx="1523880" cy="472428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111640"/>
            <a:ext cx="9144000" cy="170892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Arial"/>
              </a:rPr>
              <a:t>SONO ALTA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2065320" cy="4010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flipH="1" flipV="1">
            <a:off x="5715000" y="2133360"/>
            <a:ext cx="19051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UN MAESTR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18184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NO UN MAESTR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18184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TUDI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251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TUDI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251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AVOR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556236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AVOR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556236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AVOR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84440" y="609480"/>
            <a:ext cx="3384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AVOR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584440" y="609480"/>
            <a:ext cx="3384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GG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13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743200" y="2286000"/>
            <a:ext cx="1523880" cy="251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11640"/>
            <a:ext cx="914400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ONO BASS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2065320" cy="4010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6680" y="342900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LEGG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209680" y="228600"/>
            <a:ext cx="4513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UN LIBR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591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UN LIBR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4591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UNA CARTOLIN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9339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UNA CARTOLIN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9339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019920" cy="51148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838080" y="838080"/>
            <a:ext cx="29718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4898880"/>
            <a:ext cx="9144000" cy="19227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UNA LENTE D’INGRANDIMENT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4822920"/>
            <a:ext cx="9144000" cy="19227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UNA LENTE D’INGRANDIMENT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523880" y="380880"/>
            <a:ext cx="6019920" cy="51148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838080" y="838080"/>
            <a:ext cx="297180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 FA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 FA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 FA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CHE FAI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1708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CHE COS’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362320"/>
            <a:ext cx="9144000" cy="1708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CHE COS’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4724280"/>
            <a:ext cx="9144000" cy="1708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CHE COS’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19520" y="2286000"/>
            <a:ext cx="1523880" cy="2514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5111640"/>
            <a:ext cx="9144000" cy="1557000"/>
          </a:xfrm>
          <a:prstGeom prst="rect">
            <a:avLst/>
          </a:prstGeom>
          <a:solidFill>
            <a:srgbClr val="99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ONO BASSO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76720" y="609480"/>
            <a:ext cx="2065320" cy="4010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66680" y="342900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9144000" cy="1708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CHE COS’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362320"/>
            <a:ext cx="9144000" cy="1708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CHE COS’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4724280"/>
            <a:ext cx="9144000" cy="1708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CHE COS’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10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152280"/>
            <a:ext cx="9144000" cy="187704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438280"/>
            <a:ext cx="9144000" cy="187704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PERCHÈ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724280"/>
            <a:ext cx="9144000" cy="187704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PERCHÈ…?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ERCHÈ È DOL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451240" y="304920"/>
            <a:ext cx="3620880" cy="53337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038480" y="3352680"/>
            <a:ext cx="914400" cy="914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105160" y="4190760"/>
            <a:ext cx="251460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457200"/>
            <a:ext cx="3657600" cy="1066680"/>
          </a:xfrm>
          <a:prstGeom prst="wedgeRoundRectCallout">
            <a:avLst>
              <a:gd name="adj1" fmla="val -64106"/>
              <a:gd name="adj2" fmla="val 81995"/>
              <a:gd name="adj3" fmla="val 16667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Yumm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ERCHÈ È DOL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451240" y="304920"/>
            <a:ext cx="3620880" cy="53337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038480" y="3352680"/>
            <a:ext cx="914400" cy="914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5105160" y="4190760"/>
            <a:ext cx="251460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952880" y="457200"/>
            <a:ext cx="3657600" cy="1066680"/>
          </a:xfrm>
          <a:prstGeom prst="wedgeRoundRectCallout">
            <a:avLst>
              <a:gd name="adj1" fmla="val -64106"/>
              <a:gd name="adj2" fmla="val 81995"/>
              <a:gd name="adj3" fmla="val 16667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Yumm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ERCHÈ È VELO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2485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ERCHÈ È VELOC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24852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ERCHÈ È TARDI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5334120" cy="44816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6400800" y="457200"/>
            <a:ext cx="1709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5813280"/>
            <a:ext cx="9144000" cy="100836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ERCHÈ È TARDI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523880" y="685800"/>
            <a:ext cx="5334120" cy="44816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400800" y="457200"/>
            <a:ext cx="17096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MANGI IL CIOCCOLATIN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28954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MANGI IL CIOCCOLATIN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1522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MANGI IL CIOCCOLATIN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2895480"/>
            <a:ext cx="9144000" cy="228852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PERCH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Arial"/>
              </a:rPr>
              <a:t>È MANGI IL CIOCCOLATINO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9:38:26Z</dcterms:created>
  <dc:creator>Valeria</dc:creator>
  <dc:description/>
  <dc:language>en-US</dc:language>
  <cp:lastModifiedBy>Valeria</cp:lastModifiedBy>
  <dcterms:modified xsi:type="dcterms:W3CDTF">2005-10-11T01:42:09Z</dcterms:modified>
  <cp:revision>17</cp:revision>
  <dc:subject/>
  <dc:title>Slide 1</dc:title>
</cp:coreProperties>
</file>